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7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1.jpeg" ContentType="image/jpeg"/>
  <Override PartName="/ppt/media/image2.jpeg" ContentType="image/jpeg"/>
  <Override PartName="/ppt/media/image20.png" ContentType="image/png"/>
  <Override PartName="/ppt/media/image50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49.jpeg" ContentType="image/jpeg"/>
  <Override PartName="/ppt/media/image1.jpeg" ContentType="image/jpeg"/>
  <Override PartName="/ppt/media/image21.png" ContentType="image/png"/>
  <Override PartName="/ppt/media/image67.jpeg" ContentType="image/jpeg"/>
  <Override PartName="/ppt/media/image22.png" ContentType="image/png"/>
  <Override PartName="/ppt/media/image75.png" ContentType="image/pn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9.png" ContentType="image/png"/>
  <Override PartName="/ppt/media/image62.jpeg" ContentType="image/jpeg"/>
  <Override PartName="/ppt/media/image73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72.jpeg" ContentType="image/jpeg"/>
  <Override PartName="/ppt/media/image14.png" ContentType="image/png"/>
  <Override PartName="/ppt/media/image63.jpeg" ContentType="image/jpeg"/>
  <Override PartName="/ppt/media/image55.jpeg" ContentType="image/jpeg"/>
  <Override PartName="/ppt/media/image74.png" ContentType="image/png"/>
  <Override PartName="/ppt/media/image61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34.png" ContentType="image/png"/>
  <Override PartName="/ppt/media/image29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43.jpeg" ContentType="image/jpeg"/>
  <Override PartName="/ppt/media/image25.gif" ContentType="image/gif"/>
  <Override PartName="/ppt/media/image28.png" ContentType="image/png"/>
  <Override PartName="/ppt/media/image5.png" ContentType="image/png"/>
  <Override PartName="/ppt/media/image17.png" ContentType="image/png"/>
  <Override PartName="/ppt/media/image36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472E-A27E-4679-B556-FD87AAF1D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еометрические фигуры и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многоугольников можно составля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р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к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покрытие плоскости многоугольниками сплошь, без просветов и двойных покрытий. Любые два многоугольника имеют либо общую сторону, либо общую вершину, либо не имеют общих т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ьный парк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такой паркет из правильных многоугольников, в котором вокруг любой вершины многоугольники расположены одним и тем же способом (вокруг всех вершин в одном и том же порядке следуют многоугольники одних и тех же наимен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возможн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1 правильных парке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угольники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драты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иугольники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угольники и квадраты – 2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угольники и шестиугольники – 2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ьмиугольники и квадраты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енадцатиугольники и треугольники –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иугольники, квадраты и треугольники –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енадцатиугольники, шестиугольники и квадраты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руж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это замкнутая кривая линия, состоящая из точек, находящихся на одинаковом расстоянии от заданной точки О. Множество всех точек плоскости, находящихся на одном и том же расстоянии от данной точки плоск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чка О называе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центр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кружности (от лат. «острый конец палочки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диу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(от лат. «спица колеса») отрезок, соединяющий центр окружности с ка­кой-нибудь ее точ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Хорда окруж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, концы которого принадлежат окру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иаметр окруж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(от гр. «поперечник») отрезок (хорда), проходящий через центр окружности (круга) и соединяющий две любые ее точки. На­пример: диаметр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А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иаметр равен двум радиуса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уг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часть плоскости, ограниченная окружностью. Множество всех точек плоскости, расстояние которых от некоторой данной точки плоскости (центра) не больше да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­ница круг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— окру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ктор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часть круга между двумя его радиу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гмент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часть круга, ограниченная хордой и стягиваемой ею д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ткая характеристика основных понятий стереомет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ереометри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дел геометрии, который изучает свойства всех фигур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ъемные фигу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геометрии чаще назы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ометрическое тело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раниченная связная фигура в пространстве, которая содержит все свои граничные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гура ограниченна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ее можно заключить в какую-либо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гура связна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любые две ее точки можно соединить непрерывной линией, целиком принадлежащей фиг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тело, поверхность которого состоит из конечного числа плоских многоуго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ни многогран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лоские многоугольники, образующие его поверхность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тороны гране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шины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ершины гране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агональ многогран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езок, соединяющий две вершины, не принадлежащие одной гр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он лежит целиком по одну сторону от плоскости любой его грани. Вместе с двумя любыми точками содержит целиком весь отрезок, соединяющий эти точки. Грани – выпуклые много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б, призма, пирамида — это многогран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юбом выпуклом многограннике выполняется условие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 гд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верши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ребер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граней (теорема Эйл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ла вра­щ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образуются при вращении плоской фигуры вокруг не пересекающей ее оси, имеют гладкие криволинейные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, конус, цилиндр — это тела вра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ой круговой цилинд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гр. «валик, каток»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учается вращением прямоугольника вокруг одной из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ой круговой кону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лат. «шишка») – вращением прямоугольного треугольника вокруг ка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ращением полукруга вокруг диаме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зма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гр. «отпиленный кусочек»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гогранник, две грани которого – равные многоугольники, лежащие в параллельных плоскостях, а остальные грани – параллел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боковые ребра перпендикулярны плоскостям оснований, то призм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ая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нет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кло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 основании прямой призмы лежит правильный многоугольник, то призм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ави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аллелепипе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призма, основания которой  - параллел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оугольный параллелепипе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прямой параллелепипед, основание которого – прямоугольник. Все грани – прямо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б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прямоугольный параллелепипед, все ребра которого равны. Все грани –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троение изображения приз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ят основание (нижнее или верхнее – многоугольник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 вершин многоугольника строят параллельные прям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ямых откладывают равные отрезки (высота призм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единяют полученные точки (концы отрезков), получая второе 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многогранник, одна из граней которого – произвольный многоугольник, а остальные – треугольники, имеющие общую верш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 правильная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 ее основании правильный многоугольник, а основание высоты совпадает с центром ос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 перпендикуляра, проведенный из вершины пирамиды к плоскости ее ос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еченная пирами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часть пирамиды, заключенная между основанием и секущей плоскостью, параллельной осн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троение изображения пирами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имере правильной пирам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ят основание, находят его цент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ят высоту, проводя отрезок из центра основания, отмечают на нем вершину пирами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единяют отрезками вершины основания с вершиной пирам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ногогранник правильны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се его грани – правильные равные многоугольники и все двугранные углы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войства правильных многогран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ребра рав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плоские углы рав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многогранные углы рав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многогранные углы имеют одно и то же число граней, и в каждой вершине сходится одно и то же число реб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ществует 5 видов правильных многогранни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4 грани – тре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кс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куб) – 6 граней –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т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8 граней, тре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12 граней, пяти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20 граней, треуголь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новные понятия геомет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, элемент пространства. С точкой обычно знакомят методом показа — рисуют или прокалывают стержнем ручки в листочке бумаги. Считается, что точка не имеет ни длины, ни ширины, ни площ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а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ое неопределяемое понятие, подмножество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основное неопределяемое понятие, специальное подмножество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множество т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войства и взаимосвязи основных понятий описываются с помощью определенной группы аксиом. Через основные понятия вводятся определения всех других геометрических понятий. На основании аксиом и определений доказывают теор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считали правильные многогранники божественными фигурами. Праосновам бытия приписывалась форма правильных многогранников. Частица огня – тетраэдр; земли – куб; воздуха – октаэдр; вода – икосаэдр. Вся вселенная имеет форму додекаэ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пифагорейцев изложил в своих трудах Платон. С тех пор правильные многогранники называют платонов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клид доказал, что других правильных многоугольников не существу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плоских углов выпуклого многогранного угла меньше 3600, поэтому в одной вершине может сходить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ых треугольников – 3 (1800), 4 (2400) или 5 (3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дратов – 3 (27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иугольников – 3 (32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рхимед открыл и описал 13 видо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управильных многогранни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которые называют телами Архиме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многогранные углы их равны, а грани – разноименные правильные многоуголь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управильные многогранники можно получить из правильных операцией усечения уг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ткая характеристика основных понятий планимет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иметри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дел геометрии, изучающий свойства фигур, лежащих в одной плоск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все точки фигуры принадлежат одной плоскости, то фигура назыв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о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. С линией зна­комят методом показа — моделируют из шнура, рисуют на дос­ке или на листе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ямую ли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добно моделировать, сгибая любой лист бу­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ое свойство прямой линии: прямая линия беско­неч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ривую ли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добно моделировать из шнура. Кривая ли­ния также бесконечна (если она не замкнут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 могут быть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замкнутыми и незамкнуты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 могут быть расположены на плоскости и в простран­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е взаимоотношения точки и прямой или кривой ли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Через одну точку можно провести множество пря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Через одну точку можно провести множество кри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Через две точки можно провести только одну прям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ерез две точки можно провести множество крив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илиндр и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сть дана некоторая прямая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которая перемещается в пространстве параллельно самой себе. Выберем на прямой некоторую точку. Эта точка, передвигаясь вместе с прямой в пространстве, определяет некоторую линию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В результате такого перемещения прямая описывает некоторую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является замкнутой ломаной линией, то получ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зматическая поверх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окружность, получ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уговая цилиндрическ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ае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илиндрическ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пересечении получившейся поверхности двумя параллельными плоскостями получается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зм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образующие перпендикулярны плоскостям оснований, то призма и цилиндр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Если нет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кло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ус и пирам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сть дана некоторая точка в пространстве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ш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и луч, выходящий из этой точки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Выберем на луче некоторую точку. Эта точка, передвигаясь вместе с лучом в пространстве, определяет некоторую линию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Если луч будет перемещаться в пространстве так, что при этом постоянно будет проходить через неподвижную вершину, то он опишет некоторую поверх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ломаная, то получи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льн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и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ическая поверх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лученную поверхность пересечь плоскостью, то получится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лоскость основания перпендикулярна отрезку, соединяющему центр основания и вершину, то конус и пирамид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фе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поверхность, состоящая из всех точек пространства, расположенных на данном расстоянии от данной точки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нтра сфе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диус сфе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, соединяющий центр и любую точку 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аметр сфе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трезок, соединяющий две точки сферы и проходящий через ее це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тело, ограниченное сферой – множество точек пространства, расположенных от данной точки на расстоянии, не большем да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овой сегм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часть шара, отсекаемая от него плоск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аровой сл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часть шара, расположенная между двумя параллельными плоскостями, пересекающими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часть прямой, ограниченная с одной стороны. Луч имеет начало, но не имеет ко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е луч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ка А — начало лу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матике луч обычно обозначается двумя буквами, на­пример: луч АС. Такая запись обозначает, что луч имеет началом точку А и «идет» в сторону, обозначенную буквой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и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направлен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тивоположно направлен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ез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часть прямой, заключенная между двумя точ­ками. Множество, состоящее из всех  точек прямой, лежащих между двумя данными точками, включая эти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езок имеет определенную длину, которую можно изме­р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ом для измерения длин отрезков является ли­ней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это часть плоскости, ограниченная двумя лучами, имеющими общее нач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учи, образующие угол, называю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оронами уг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а их общее начало —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шиной уг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жество всех точек плоскости между сторонами угла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яя плоскость уг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Угол развернутый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лучи, выходящие из одной точки, лежат на одной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вны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при наложении их стороны совпа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а угла, имеющих общую сторону и вершину, явля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межными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две другие их стороны лежат на одной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а угла называ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ертикальными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стороны одного являются дополнительными полупрямыми сторон друг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это угол, который по определению содер­жит 90 граду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олучения модели прямого угла используют лист бумаги, сгибая его два раза соответств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оманая линия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ъединение отрезков, в котором конец каждого отрезка является началом следующего отрезка, и отрезки, имеющие общий конец, не лежат на одной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резки, составляющие ломаную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венья ломаной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Точки соединения концов звеньев назы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шинами ло­маной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венья ломаной должны быть соединены последова­тельно. Ломаная линия содержит конечное число звен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лина лома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сумма длин звеньев ломаной. Для нахо­ждения длины ломаной следует измерить длину каждого зве­на и результаты сло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мкнут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если конец ее последнего звена совпадает с началом первого зв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Ломаную ли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добно моделировать, используя счетные палочки или складной металлический мет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ста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если каждое звено имеет только одну общую точку с другим звеном (конец звена). Несмежные звенья не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лоская фигура, ограниченная простой замкну­той ломаной. Сама ломаная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ница многоугольника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венья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роны многоуголь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чки пересечения звеньев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шины многоуголь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вершин многоугольника равно числу его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он лежит в одной полуплоскости относительно любой прямой, содержащей его стор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агональ многоуголь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езок, соединяющий две несоседние вершины много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ьны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ли все его стороны и все углы равны между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— многоугольник с тремя углами и сторонами, ограничен ломаной из трех звеньев. Фигура, состоящая из трех точек, не лежащих на одной прямой, и трех попарно соединяющих их отрез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Виды треугольников в зависимости от длин стор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реугольники, у которых все стороны разной длины, назы­вают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разносторонни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реугольники, у которых равны две стороны, называют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рав­нобедренными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реди равнобедренных треугольников есть такие, у которых равны все три стороны. Эти треугольники называют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равносто­ронни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Виды треугольников в зависимости от содержащихся в них угл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Остроугольны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считается треугольник, все углы которого остры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Прямоугольны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считается треугольник, который имеет один прямой уго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Тупоугольным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считается треугольник, который имеет один тупой уго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треугольнике не может быть больше одного прямого или тупого уг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вносторонний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реугольник может быть только остро­угольны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ямоугольный и тупоугольный треугольники могут быть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внобедренны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зносторонним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огут быть и остроугольный, и прямо­угольный, и тупоугольный треугольни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Четырехугольни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— ограничен ломаной из четырех звень­ев, соответственно имеет четыре стороны и четыре вершины. Фигура, состоящая из четырех точек и четырех последовательно соединяющих их отрезков, при этом никакие три из данных точек не лежат на одной прямой, а соединяющие их отрезки не пересекаю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ершины четырехугольника называются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оседними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сли они являются концами одной из сторо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ороны четырехугольника, исходящие из одной вершины –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оседни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араллелограмм –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етырехугольник, противоположные стороны которого попарно параллель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ередина диагонали является центром симметр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тивоположные стороны рав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тивоположные углы рав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аждая диагональ делит параллелограмм на два равных треугольник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делятся точкой пересечения попола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омб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– (от гр. «бубен») – параллелограмм, все стороны которого рав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взаимно перпендикуляр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ромба являются биссектрисами его углов (делят углы пополам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ямая, содержащая диагональ ромба, является его осью симметр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ет две оси симметрии – диагонал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— параллелограмм, у которого все углы прямы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агонали равны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ерпендикуляр, проходящий через середины противоположных сторон прямоугольника, является его осью симметр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ет две оси симметрии – серединные перпендикуляр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вадра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— (от лат. «четырехугольник») прямоугольник, у которого все стороны рав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бъединяет свойства параллелограмма, ромба и прямоугольни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ет 4 оси симметрии – 2 диагонали и 2 серединных перпендикуляр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Трапеция –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от лат. «столик») четырехугольник, две стороны которого параллельны, а две другие не параллель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араллельные стороны –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непараллельные –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боковые стороны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рапеция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прямоугольная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сли одна из боковых сторон перпендикулярна основан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рапеция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равнобочная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сли ее боковые стороны равны. Углы при основании тоже рав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8738-AAC2-436A-820B-BF729074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B1E2-33C3-490D-BA11-0D83A036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29C4-C6F6-423D-973F-BE0A1192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FE8E-F29A-409C-AD8F-BB8CABE7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4022-E24F-40D4-9CA6-90CC3036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F249-D364-42B4-BC30-972BAFC4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D00-5A4E-4580-9CA8-E175ACC2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7ABC-8914-4AD6-9947-2253B25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AFF6-F9E9-43D8-8D7D-28B74AF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536-C562-4AD7-A8A8-2302A0C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B4CD-BF50-476A-B237-CC7F598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850F-306F-497E-AA53-86E2C01F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9F85-901E-4BB7-A173-FCB99A81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578-91B9-424A-B242-B7EF07C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5E8F-DDF1-42AF-86F2-32867E9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23F5-1252-43FB-88ED-41EBD2A8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3E72-C9AB-4878-970B-E0E1C9B0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8524-E4DB-47FC-8FFC-51F987A1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AFB2-66C9-462E-B499-77AA2B3A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1785-DF5B-42D0-AEF0-933EF9C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892F-092A-4A29-9371-5020C15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4A57-1F1C-479F-9EA7-13E5C99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6D00-06F2-4728-9FBA-717379D0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5E45-2F51-46B0-91B5-74147834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81DA-ADF6-4D0F-AAEA-66BE17F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9F37-019D-47ED-931C-270FFCFA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7C31-97EC-439B-8B3F-F858541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F349-7647-489D-A185-4BE68BF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F45D-D78E-4995-8A31-604770D1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0EDE-C4C6-4E3C-A07B-EA5D34AA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B426-7997-46A0-9984-77470B27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825A-2762-4C0F-8CB7-114A7172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6352-2AB5-4106-AC72-24544011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FF5A-0BCD-420F-98BC-BE50A80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F19A-93B3-4D10-859E-1FCA8E03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CA83-257F-4000-89D2-0CD7ACE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AAF4-FB74-48EB-8065-2050E97C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E1BE7-F0AD-4713-AF5A-A568D55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7822-4AA1-46C2-9658-428A440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ED09-DD4F-4082-A80F-CA9D860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2934-A82C-4092-81F0-036A9830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324A-D9A7-4578-9F83-88EE0FC9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8A5D-105E-4C22-ABF0-D1FA8911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99F2-3D1A-47F3-9B7B-666C13B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C2D6-2E0A-4301-8BC9-3E7B703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E7CA-BCE1-437A-B015-6EA56AB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9A80-A02E-44A8-A930-E349514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C110-4490-4B01-8BEA-0517593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5C15-399B-46F5-9F41-F076271CD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3FD-727D-4AAF-A647-A1A6B1380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35E-4599-464C-87B4-68D8BD2BC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95D-0EC7-4A81-B13A-AE3FD42D02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Геометрические фигуры и тел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02920" y="4868640"/>
            <a:ext cx="7588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абова Марина Анатоль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нд. пед. наук, доцент кафедры ПМДО КГП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519280" cy="2560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аркеты из много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многоугольников можно составля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рке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к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окрытие плоскости многоугольниками сплошь, без просветов и двойных покрытий. Любые два многоугольника имеют либо общую сторону, либо общую вершину, либо не имеют общих т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ьный парк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кой паркет из правильных многоугольников, в котором вокруг любой вершины многоугольники расположены одним и тем же способом (вокруг всех вершин в одном и том же порядке следуют многоугольники одних и тех же наиме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40360" y="2637000"/>
            <a:ext cx="320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о возможн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1 правильных парк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,3,3,3,3,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4,4,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6,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4,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3,3,4,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6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4,3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3,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3,3,3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3,6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,3,3,3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1197000"/>
            <a:ext cx="6048000" cy="5660640"/>
            <a:chOff x="0" y="1197000"/>
            <a:chExt cx="6048000" cy="5660640"/>
          </a:xfrm>
        </p:grpSpPr>
        <p:pic>
          <p:nvPicPr>
            <p:cNvPr id="272" name="Ris_4" descr=""/>
            <p:cNvPicPr/>
            <p:nvPr/>
          </p:nvPicPr>
          <p:blipFill>
            <a:blip r:embed="rId1"/>
            <a:stretch/>
          </p:blipFill>
          <p:spPr>
            <a:xfrm rot="5400000">
              <a:off x="773280" y="1582920"/>
              <a:ext cx="4501080" cy="60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is_3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6048000" cy="120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1194-128B-4E08-906F-5C9634FDB56C}" type="slidenum">
              <a:t>10</a:t>
            </a:fld>
          </a:p>
        </p:txBody>
      </p:sp>
    </p:spTree>
  </p:cSld>
  <p:transition>
    <p:push dir="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кружность и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ружн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это замкнутая кривая линия, состоящая из точек, находящихся на одинаковом расстоянии от заданной точки О. Множество всех точек плоскости, находящихся на одном и том же расстоянии от данной точки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а О называе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ентр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ружности (от лат. «острый конец палоч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диу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(от лат. «спица колеса») отрезок, соединяющий центр окружности с какой-нибудь ее точ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да окруж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, концы которого принадлежа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иаметр окруж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(от гр. «поперечни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езок (хорда), проходящий через центр 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круга) и соединяющий две любые ее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иаметр равен двум радиуса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у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часть плоскости, ограниченная окружностью. Множество всех точек плоскости, расстояние которых от некоторой данной точки плоскости (центра) не больше д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ница круг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тор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сть круга между двумя его радиу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гмент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сть круга, ограниченная хордой и стягиваемой ею д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03280" y="2349360"/>
            <a:ext cx="3672000" cy="3667320"/>
          </a:xfrm>
          <a:prstGeom prst="flowChar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77080" y="3290760"/>
            <a:ext cx="1798560" cy="16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8B15-20FF-4F0E-9E28-77C4243C7BA3}" type="slidenum">
              <a:t>11</a:t>
            </a:fld>
          </a:p>
        </p:txBody>
      </p:sp>
    </p:spTree>
  </p:cSld>
  <p:transition>
    <p:randomBar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раткая характеристика основных понятий стер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реометрия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 геометрии, который изучает свойства всех фигур простр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мные фигу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еометрии чаще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метрическое тело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аниченная связная фигура в пространстве, которая содержит все свои граничные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гура ограниченна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ее можно заключить в какую-либо сф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гура связна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любые две ее точки можно соединить непрерывной линией, целиком принадлежащей фиг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15C7-9F78-47F2-BC2C-AB48C7F48669}" type="slidenum">
              <a:t>12</a:t>
            </a:fld>
          </a:p>
        </p:txBody>
      </p:sp>
    </p:spTree>
  </p:cSld>
  <p:transition>
    <p:circle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Многогран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ло, поверхность которого состоит из конечного числа плоских мног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и 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лоские многоугольники, образующие его поверхность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тороны гран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ы многогран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ршины гран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ональ 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резок, соединяющий две вершины, не принадлежащие одной гр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гран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он лежит целиком по одну сторону от плоскости любой его грани. Вместе с двумя любыми точками содержит целиком весь отрезок, соединяющий эти точки. Грани – выпуклые мног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юбом выпуклом многограннике выполняется услов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вершин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реб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сло граней (теорема Эйл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1052640"/>
            <a:ext cx="8640720" cy="5113080"/>
            <a:chOff x="250920" y="1052640"/>
            <a:chExt cx="8640720" cy="511308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250920" y="1052640"/>
              <a:ext cx="864072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50920" y="5229360"/>
              <a:ext cx="453528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8410-34E7-42C2-B419-7E5F327BBB59}" type="slidenum">
              <a:t>13</a:t>
            </a:fld>
          </a:p>
        </p:txBody>
      </p:sp>
    </p:spTree>
  </p:cSld>
  <p:transition>
    <p:diamond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Тела вращ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ла в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тся при вра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ской фигуры вокруг не пересекающей ее о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ют гладкие криволинейные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й круговой цилинд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р. «вал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ок»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ается вращением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круг одной из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й круговой кон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лат. «шишка»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щением прямоуголь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круг ка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ар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щением полукруга вокруг диа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164360" y="189000"/>
            <a:ext cx="1979280" cy="6668640"/>
            <a:chOff x="7164360" y="189000"/>
            <a:chExt cx="1979280" cy="666864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7164360" y="189000"/>
              <a:ext cx="1970640" cy="25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7164360" y="2711880"/>
              <a:ext cx="1979280" cy="24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7164360" y="5055840"/>
              <a:ext cx="194292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2745-CAA8-475F-B02C-6BABF4683174}" type="slidenum">
              <a:t>14</a:t>
            </a:fld>
          </a:p>
        </p:txBody>
      </p:sp>
    </p:spTree>
  </p:cSld>
  <p:transition>
    <p:split dir="in" orient="horz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200"/>
                            </p:stCondLst>
                            <p:childTnLst>
                              <p:par>
                                <p:cTn id="8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200"/>
                            </p:stCondLst>
                            <p:childTnLst>
                              <p:par>
                                <p:cTn id="8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0" dur="2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ризм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ма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гр. «отпиленный кусочек»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, две грани которого – равные многоугольники, лежащие в параллельных плоскостях, а остальные грани – параллел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боковые ребра перпендикулярны плоскостям оснований, то призм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ая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сли нет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кло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основании прямой призмы лежит правильный многоугольник, то призма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епипе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изма, основания которой  - параллел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ый параллелепип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рямой параллелепипед, основание которого – прямоугольник. Все грани – прямо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ямоугольный параллелепипед, все ребра которого равны. Все грани – квадр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005360"/>
            <a:ext cx="45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ение изображения приз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 основание (нижнее или верхнее – многоугольни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вершин многоугольника строят параллельные прям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рямых откладывают равные отрезки (высота призм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ют полученные точки (концы отрезков), получая второе осн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0" r="0" b="16916"/>
          <a:stretch/>
        </p:blipFill>
        <p:spPr>
          <a:xfrm>
            <a:off x="4356000" y="4005360"/>
            <a:ext cx="1470240" cy="1839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rcRect l="0" t="0" r="0" b="12369"/>
          <a:stretch/>
        </p:blipFill>
        <p:spPr>
          <a:xfrm>
            <a:off x="7308720" y="4076640"/>
            <a:ext cx="1521000" cy="2303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0" r="0" b="18294"/>
          <a:stretch/>
        </p:blipFill>
        <p:spPr>
          <a:xfrm>
            <a:off x="5867280" y="5373720"/>
            <a:ext cx="135900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ACEE-20E9-4407-BBC2-38007833AD56}" type="slidenum">
              <a:t>15</a:t>
            </a:fld>
          </a:p>
        </p:txBody>
      </p:sp>
    </p:spTree>
  </p:cSld>
  <p:transition>
    <p:strips dir="ld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многогранник, одна из граней которого – произвольный многоугольник, а остальные – треугольники, имеющие общую верш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 правильна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 ее основании правильный многоугольник, а основание высоты совпадает с центром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 перпендикуляра, проведенный из вершины пирамиды к плоскости ее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еченная 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часть пирамиды, заключенная между основанием и секущей плоскостью, параллельной осно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19640" y="3332160"/>
            <a:ext cx="39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ение изображения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 примере правильной пирамид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 основание, находят его цен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ят высоту, проводя отрезок из центра основания, отмечают на нем вершину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ют отрезками вершины основания с вершиной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763640" cy="1598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1699920" cy="1800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174312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6D7F-E214-44A5-9206-2635DA6BB657}" type="slidenum">
              <a:t>16</a:t>
            </a:fld>
          </a:p>
        </p:txBody>
      </p:sp>
    </p:spTree>
  </p:cSld>
  <p:transition>
    <p:pull dir="d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гранник правильный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его грани – правильные равные многоугольники и все двугранные углы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йства правильных многогран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ребра рав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плоские углы рав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многогранные углы рав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многогранные углы имеют одно и то же число граней, и в каждой вершине сходится одно и то же число реб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Всего существует 5 видов правильных многогранни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820908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2DBF-2EEA-4DE7-B4A5-27ADBB9B45BF}" type="slidenum">
              <a:t>17</a:t>
            </a:fld>
          </a:p>
        </p:txBody>
      </p:sp>
    </p:spTree>
  </p:cSld>
  <p:transition>
    <p:wedge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Тетр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535120" y="98100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6920" y="5589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ая треугольная 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1461-62F4-49EF-A666-85212A97F22C}" type="slidenum">
              <a:t>18</a:t>
            </a:fld>
          </a:p>
        </p:txBody>
      </p:sp>
    </p:spTree>
  </p:cSld>
  <p:transition>
    <p:wheel spokes="1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Гекс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9728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24000" y="537372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шестигран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ая четырехугольная призма, прямоугольный параллелепипед с равными ребрами,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7DB5-6A2B-4B50-BF52-58F27371B35C}" type="slidenum">
              <a:t>19</a:t>
            </a:fld>
          </a:p>
        </p:txBody>
      </p:sp>
    </p:spTree>
  </p:cSld>
  <p:transition>
    <p:wheel spokes="2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сновные понятия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, элемент пространства. Считается, что точка не имеет ни длины, ни ширины, ни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а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ое неопределяемое понятие, подмножеств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сновное неопределяемое понятие, специальное подмножеств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множество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и взаимосвязи основных понятий описываются с помощью определенной групп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сио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основные понятия вводя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сех других геометрических пон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ании аксиом и определений доказы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5F12-41D7-4BC4-9E55-70DB7E019964}" type="slidenum">
              <a:t>2</a:t>
            </a:fld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кт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79880" cy="3886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258920" y="5734080"/>
            <a:ext cx="73454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ый восьмигран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пирамида четырехуг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6DE8-D064-4B24-B269-12DE2C05E13A}" type="slidenum">
              <a:t>20</a:t>
            </a:fld>
          </a:p>
        </p:txBody>
      </p:sp>
    </p:spTree>
  </p:cSld>
  <p:transition>
    <p:wheel spokes="3"/>
  </p:transition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0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Додек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2725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187280" y="5157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двенадцатигра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5D0E-9A01-482E-BE95-1A559C4A248D}" type="slidenum">
              <a:t>21</a:t>
            </a:fld>
          </a:p>
        </p:txBody>
      </p:sp>
    </p:spTree>
  </p:cSld>
  <p:transition>
    <p:wheel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Икосаэ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040360" cy="2986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47640" y="5229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двадцатигра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5F40-8C9E-4969-81E6-957193048803}" type="slidenum">
              <a:t>22</a:t>
            </a:fld>
          </a:p>
        </p:txBody>
      </p:sp>
    </p:spTree>
  </p:cSld>
  <p:transition>
    <p:wheel spokes="8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07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фагорейцы считали правильные многогранники божественными фигурами. Праосновам бытия приписывалась форма правильных многогра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516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пифагорейцев изложил в своих трудах Платон. С тех пор правильные многогранники называют 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платоновыми те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клид доказал, что других правильных многогранников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476360" y="2133720"/>
            <a:ext cx="2506680" cy="1223640"/>
            <a:chOff x="1476360" y="2133720"/>
            <a:chExt cx="2506680" cy="122364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1476360" y="2133720"/>
              <a:ext cx="148572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2916000" y="2133720"/>
              <a:ext cx="1067040" cy="12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"/>
          <p:cNvGrpSpPr/>
          <p:nvPr/>
        </p:nvGrpSpPr>
        <p:grpSpPr>
          <a:xfrm>
            <a:off x="5076720" y="2133720"/>
            <a:ext cx="2525400" cy="1224000"/>
            <a:chOff x="5076720" y="2133720"/>
            <a:chExt cx="2525400" cy="122400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5076720" y="2133720"/>
              <a:ext cx="14698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6516360" y="2133720"/>
              <a:ext cx="1085760" cy="12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179280" y="3860640"/>
            <a:ext cx="2563920" cy="1152360"/>
            <a:chOff x="179280" y="3860640"/>
            <a:chExt cx="2563920" cy="115236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179280" y="3860640"/>
              <a:ext cx="14702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1619280" y="3860640"/>
              <a:ext cx="112392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3132000" y="4149720"/>
            <a:ext cx="2573640" cy="1181160"/>
            <a:chOff x="3132000" y="4149720"/>
            <a:chExt cx="2573640" cy="1181160"/>
          </a:xfrm>
        </p:grpSpPr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3132000" y="4149720"/>
              <a:ext cx="14446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4572000" y="4149720"/>
              <a:ext cx="11336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6156360" y="3860640"/>
            <a:ext cx="2574360" cy="1152720"/>
            <a:chOff x="6156360" y="3860640"/>
            <a:chExt cx="2574360" cy="1152720"/>
          </a:xfrm>
        </p:grpSpPr>
        <p:pic>
          <p:nvPicPr>
            <p:cNvPr id="337" name="" descr=""/>
            <p:cNvPicPr/>
            <p:nvPr/>
          </p:nvPicPr>
          <p:blipFill>
            <a:blip r:embed="rId9"/>
            <a:stretch/>
          </p:blipFill>
          <p:spPr>
            <a:xfrm>
              <a:off x="6156360" y="3860640"/>
              <a:ext cx="142848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0"/>
            <a:stretch/>
          </p:blipFill>
          <p:spPr>
            <a:xfrm>
              <a:off x="7597440" y="3860640"/>
              <a:ext cx="1133280" cy="11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5B05-C7CA-493E-AB99-CB255D15C6E3}" type="slidenum">
              <a:t>23</a:t>
            </a:fld>
          </a:p>
        </p:txBody>
      </p:sp>
    </p:spTree>
  </p:cSld>
  <p:transition>
    <p:wipe dir="d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262226321" descr=""/>
          <p:cNvPicPr/>
          <p:nvPr/>
        </p:nvPicPr>
        <p:blipFill>
          <a:blip r:embed="rId1"/>
          <a:stretch/>
        </p:blipFill>
        <p:spPr>
          <a:xfrm>
            <a:off x="1619280" y="1333440"/>
            <a:ext cx="5832360" cy="4875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Почему их только 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а плоских углов выпуклого многогранного угла меньше 36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в одной вершине может сходи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х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(1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тетраэ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(24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октаэ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(3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икосаэ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дра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3 (27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к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иугольни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(3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додекаэ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26D9-421A-41D7-855A-4C77CA3523BF}" type="slidenum">
              <a:t>24</a:t>
            </a:fld>
          </a:p>
        </p:txBody>
      </p:sp>
    </p:spTree>
  </p:cSld>
  <p:transition>
    <p:wipe dir="l"/>
  </p:transition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3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8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3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8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3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Развертки правильных многогран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03640" cy="19479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3024000" cy="1735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435640" y="1125360"/>
            <a:ext cx="2736720" cy="2079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2916360" y="2637000"/>
            <a:ext cx="2663640" cy="2050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4140360" cy="21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C60E-D332-4DA0-9D72-131E19743FA7}" type="slidenum">
              <a:t>25</a:t>
            </a:fld>
          </a:p>
        </p:txBody>
      </p:sp>
    </p:spTree>
  </p:cSld>
  <p:transition>
    <p:wipe dir="u"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олу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мед открыл и описал 13 вид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правильных многогранни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ые называют телами Архим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многогранные углы их равны, а грани – разноименные правильные многоуголь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правильные многогранники можно получить из правильных операцией усечения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8AF7-2191-486B-BAAD-E42D1C7C12D6}" type="slidenum">
              <a:t>26</a:t>
            </a:fld>
          </a:p>
        </p:txBody>
      </p:sp>
    </p:spTree>
  </p:cSld>
  <p:transition>
    <p:random/>
  </p:transition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олу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6093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Тела Архим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428480" cy="1403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428840" cy="1454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1428840" cy="12654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2050920" y="4076640"/>
            <a:ext cx="1428840" cy="1486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5508720" y="4292640"/>
            <a:ext cx="1428480" cy="131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2700360" y="2708280"/>
            <a:ext cx="1428840" cy="1306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5219640" y="1125360"/>
            <a:ext cx="1428840" cy="1420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4788000" y="2637000"/>
            <a:ext cx="1428480" cy="14443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6732720" y="2708280"/>
            <a:ext cx="1428480" cy="14446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0"/>
          <a:stretch/>
        </p:blipFill>
        <p:spPr>
          <a:xfrm>
            <a:off x="1042920" y="2492280"/>
            <a:ext cx="1428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1"/>
          <a:stretch/>
        </p:blipFill>
        <p:spPr>
          <a:xfrm>
            <a:off x="2771640" y="1052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755640" y="981000"/>
            <a:ext cx="14288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3"/>
          <a:stretch/>
        </p:blipFill>
        <p:spPr>
          <a:xfrm>
            <a:off x="7164360" y="1125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29E4-FFC0-4189-A37D-B9461FBB7AF0}" type="slidenum">
              <a:t>27</a:t>
            </a:fld>
          </a:p>
        </p:txBody>
      </p:sp>
    </p:spTree>
  </p:cSld>
  <p:transition>
    <p:blinds dir="horz"/>
  </p:transition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Антипризмы"/>
          <p:cNvPicPr/>
          <p:nvPr/>
        </p:nvPicPr>
        <p:blipFill>
          <a:blip r:embed="rId1"/>
          <a:stretch/>
        </p:blipFill>
        <p:spPr>
          <a:xfrm>
            <a:off x="5940360" y="981000"/>
            <a:ext cx="3203640" cy="2745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Полуправильн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836880" y="4365720"/>
            <a:ext cx="2363760" cy="24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446560" cy="2492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942920" cy="15969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3924360" y="981000"/>
            <a:ext cx="1871640" cy="1817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6227640" y="3716280"/>
            <a:ext cx="2614680" cy="2665440"/>
          </a:xfrm>
          <a:prstGeom prst="rect">
            <a:avLst/>
          </a:prstGeom>
          <a:ln w="0">
            <a:noFill/>
          </a:ln>
        </p:spPr>
      </p:pic>
      <p:pic>
        <p:nvPicPr>
          <p:cNvPr id="372" name="200522983" descr=""/>
          <p:cNvPicPr/>
          <p:nvPr/>
        </p:nvPicPr>
        <p:blipFill>
          <a:blip r:embed="rId7"/>
          <a:stretch/>
        </p:blipFill>
        <p:spPr>
          <a:xfrm>
            <a:off x="250920" y="907920"/>
            <a:ext cx="3744720" cy="36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87CC-073D-4089-8FED-43CF43FEDB20}" type="slidenum">
              <a:t>28</a:t>
            </a:fld>
          </a:p>
        </p:txBody>
      </p:sp>
    </p:spTree>
  </p:cSld>
  <p:transition>
    <p:blinds dir="vert"/>
  </p:transition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0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Звездчатые 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1722600" cy="1729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2484360" y="907920"/>
            <a:ext cx="1648080" cy="1656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659640" y="907920"/>
            <a:ext cx="1650960" cy="1657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755640" y="2781360"/>
            <a:ext cx="1577880" cy="1584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2700360" y="2708280"/>
            <a:ext cx="1649520" cy="1655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59280" y="2708280"/>
            <a:ext cx="1650960" cy="1657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6877080" y="2708280"/>
            <a:ext cx="1722240" cy="1728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9"/>
          <a:stretch/>
        </p:blipFill>
        <p:spPr>
          <a:xfrm>
            <a:off x="179280" y="4653000"/>
            <a:ext cx="1792440" cy="1800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2340000" y="4653000"/>
            <a:ext cx="1827360" cy="1835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4500720" y="4724280"/>
            <a:ext cx="1827000" cy="1835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2"/>
          <a:stretch/>
        </p:blipFill>
        <p:spPr>
          <a:xfrm>
            <a:off x="6659640" y="4724280"/>
            <a:ext cx="179208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6EEF-6978-488C-8461-D44C54D76005}" type="slidenum">
              <a:t>29</a:t>
            </a:fld>
          </a:p>
        </p:txBody>
      </p:sp>
    </p:spTree>
  </p:cSld>
  <p:transition>
    <p:checker dir="vert"/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раткая характеристика </a:t>
            </a:r>
            <a:br>
              <a:rPr sz="3200"/>
            </a:b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основных понятий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ниметрия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 геометрии, изучающий свойства фигур, лежащих в одной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точки фигуры принадлежат одной плоскости, то фигура называ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неопределяемое понятие гео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ямую ли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добно моделировать, сгибая любой лист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ое свойство прямой линии: прямая линия бесконеч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ривую ли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добно моделировать из шнура. Кривая линия также бесконечна (если она не замкнут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ии могут быт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мкнутыми и незамкнут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58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ии могут быть расположены на плоскости 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взаимоотношения точки и ли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Через одну точку можно провести множество пря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Через одну точку можно провести множество кр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Через две точки можно провести только одну прям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Через две точки можно провести множество крив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5BFE-33CC-44C3-83EC-080F950BCD22}" type="slidenum">
              <a:t>3</a:t>
            </a:fld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Цилиндр и п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сть дана некоторая пряма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которая перемещается в пространстве параллельно самой себе. Выберем на прямой некоторую точку. Эта точка, передвигаясь вместе с прямой в пространстве, определяет некоторую лини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В результате такого перемещения прямая описывает некоторую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0920" y="2565360"/>
            <a:ext cx="4321080" cy="2919600"/>
            <a:chOff x="250920" y="2565360"/>
            <a:chExt cx="4321080" cy="291960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250920" y="2565360"/>
              <a:ext cx="432108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971640" y="2565360"/>
              <a:ext cx="273528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643280" y="256536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аправляющая является замкнутой ломаной линией, то получ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матическая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аправляющая – окружность, получ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говая цилиндрическ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а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линдрическ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5445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ересечении получившейся поверхности двумя параллельными плоскостями получается либ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образующие перпендикулярны плоскостям оснований, то призма и цилиндр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Если нет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кло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F937-14D4-4E22-BFCF-77C10F97438D}" type="slidenum">
              <a:t>30</a:t>
            </a:fld>
          </a:p>
        </p:txBody>
      </p:sp>
    </p:spTree>
  </p:cSld>
  <p:transition>
    <p:cover dir="r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0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онус и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сть дана некоторая точка в пространств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ш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луч, выходящий из этой точ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Выберем на луче некоторую точку. Эта точка, передвигаясь вместе с лучом в пространстве, определяет некоторую лини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авляющ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Если луч будет перемещаться в пространстве так, что при этом постоянно будет проходить через неподвижную вершину, то он опишет некоторую поверх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2924280"/>
            <a:ext cx="377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ломаная, то получи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льная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аправляющая – замкнутая кривая, то получи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ическая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546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полученную поверхность пересечь плоскостью, то получится либ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плоскость основания перпендикулярна отрезку, соединяющему центр основания и вершину, то конус и пирамид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51280" y="2637000"/>
            <a:ext cx="4896000" cy="2879640"/>
            <a:chOff x="3851280" y="2637000"/>
            <a:chExt cx="4896000" cy="287964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3851280" y="2637000"/>
              <a:ext cx="48960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516720" y="2637000"/>
              <a:ext cx="1440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18CD-5773-4342-834C-E7D62C3A56D2}" type="slidenum">
              <a:t>31</a:t>
            </a:fld>
          </a:p>
        </p:txBody>
      </p:sp>
    </p:spTree>
  </p:cSld>
  <p:transition>
    <p:cover dir="u"/>
  </p:transition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0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Сфера и ш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верхность, состоящая из всех точек пространства, расположенных на данном расстоянии от данной точки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а сф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диус сф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трезок, соединяющий центр и любую точку 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метр сф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трезок, соединяющий две точки сферы и проходящий через ее це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ело, ограниченное сферой – множество точек пространства, расположенных от данной точки на расстоянии, не большем д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овой сег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часть шара, отсекаемая от него плос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овой с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часть шара, расположенная между двумя параллельными плоскостями, пересекающими ш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6360" y="3500280"/>
            <a:ext cx="5651640" cy="3106800"/>
            <a:chOff x="1476360" y="3500280"/>
            <a:chExt cx="5651640" cy="310680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rcRect l="0" t="6342" r="0" b="18051"/>
            <a:stretch/>
          </p:blipFill>
          <p:spPr>
            <a:xfrm>
              <a:off x="1476360" y="3500280"/>
              <a:ext cx="565164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2484360" y="6030720"/>
              <a:ext cx="648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13440" y="5743440"/>
              <a:ext cx="6476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090C-B40D-4441-B385-7140D9528F1B}" type="slidenum">
              <a:t>32</a:t>
            </a:fld>
          </a:p>
        </p:txBody>
      </p:sp>
    </p:spTree>
  </p:cSld>
  <p:transition>
    <p:cut thruBlk="true"/>
  </p:transition>
  <p:timing>
    <p:tnLst>
      <p:par>
        <p:cTn id="1742" dur="indefinite" restart="never" nodeType="tmRoot">
          <p:childTnLst>
            <p:seq>
              <p:cTn id="1743" dur="indefinite" nodeType="mainSeq">
                <p:childTnLst>
                  <p:par>
                    <p:cTn id="1744" fill="hold">
                      <p:stCondLst>
                        <p:cond delay="0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9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8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2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AD8-D2F7-40DB-8E0E-71B72C3079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Ничто не нрави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оме красо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красоте - нич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оме фор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формах - нич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оме пропорц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пропорциях - ничто, кроме числа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. Авгус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0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720"/>
                            </p:stCondLst>
                            <p:childTnLst>
                              <p:par>
                                <p:cTn id="18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280"/>
                            </p:stCondLst>
                            <p:childTnLst>
                              <p:par>
                                <p:cTn id="1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920"/>
                            </p:stCondLst>
                            <p:childTnLst>
                              <p:par>
                                <p:cTn id="18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2360"/>
                            </p:stCondLst>
                            <p:childTnLst>
                              <p:par>
                                <p:cTn id="18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3" dur="8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4" dur="8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5" dur="8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2960"/>
                            </p:stCondLst>
                            <p:childTnLst>
                              <p:par>
                                <p:cTn id="18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9" dur="8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0" dur="8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8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3600"/>
                            </p:stCondLst>
                            <p:childTnLst>
                              <p:par>
                                <p:cTn id="18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5" dur="8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6" dur="8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7" dur="8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4840"/>
                            </p:stCondLst>
                            <p:childTnLst>
                              <p:par>
                                <p:cTn id="18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1" dur="8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3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3" dur="8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Луч и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асть прямой, ограниченная с одной стороны. Луч имеет начало, но не имеет конца. Луч бесконе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А — начало луча 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и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-77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аправлен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-77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положно направлен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ез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асть прямой, заключенная между двумя точками. Множество, состоящее из всех  точек прямой, лежащих между двумя данными точками, включая эти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 имеет определенную длину, которую можно изме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ом для измерения длин отрезков является лине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2565360"/>
            <a:ext cx="410508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1DDD-BBD4-43B4-8109-771430DC7BE0}" type="slidenum">
              <a:t>4</a:t>
            </a:fld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68360" y="3789000"/>
            <a:ext cx="3023640" cy="2664000"/>
            <a:chOff x="468360" y="3789000"/>
            <a:chExt cx="3023640" cy="2664000"/>
          </a:xfrm>
        </p:grpSpPr>
        <p:grpSp>
          <p:nvGrpSpPr>
            <p:cNvPr id="209" name=""/>
            <p:cNvGrpSpPr/>
            <p:nvPr/>
          </p:nvGrpSpPr>
          <p:grpSpPr>
            <a:xfrm>
              <a:off x="468360" y="3789000"/>
              <a:ext cx="3023640" cy="457200"/>
              <a:chOff x="468360" y="3789000"/>
              <a:chExt cx="302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68360" y="4246200"/>
                <a:ext cx="178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1018080" y="3789000"/>
                <a:ext cx="123696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5040" y="4246200"/>
                <a:ext cx="1236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356120" y="4677120"/>
              <a:ext cx="1599840" cy="1775880"/>
              <a:chOff x="1356120" y="4677120"/>
              <a:chExt cx="1599840" cy="1775880"/>
            </a:xfrm>
          </p:grpSpPr>
          <p:sp>
            <p:nvSpPr>
              <p:cNvPr id="214" name=""/>
              <p:cNvSpPr/>
              <p:nvPr/>
            </p:nvSpPr>
            <p:spPr>
              <a:xfrm>
                <a:off x="1356480" y="4677120"/>
                <a:ext cx="1599480" cy="177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356120" y="4795200"/>
                <a:ext cx="15994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4643280" y="3860280"/>
            <a:ext cx="3600720" cy="1944360"/>
            <a:chOff x="4643280" y="3860280"/>
            <a:chExt cx="3600720" cy="1944360"/>
          </a:xfrm>
        </p:grpSpPr>
        <p:grpSp>
          <p:nvGrpSpPr>
            <p:cNvPr id="217" name=""/>
            <p:cNvGrpSpPr/>
            <p:nvPr/>
          </p:nvGrpSpPr>
          <p:grpSpPr>
            <a:xfrm>
              <a:off x="4843080" y="4184640"/>
              <a:ext cx="799920" cy="1620000"/>
              <a:chOff x="4843080" y="4184640"/>
              <a:chExt cx="799920" cy="16200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43080" y="4184640"/>
                <a:ext cx="0" cy="16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43080" y="5804640"/>
                <a:ext cx="79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643360" y="4184640"/>
              <a:ext cx="1599840" cy="1296000"/>
              <a:chOff x="5643360" y="4184640"/>
              <a:chExt cx="1599840" cy="1296000"/>
            </a:xfrm>
          </p:grpSpPr>
          <p:sp>
            <p:nvSpPr>
              <p:cNvPr id="221" name=""/>
              <p:cNvSpPr/>
              <p:nvPr/>
            </p:nvSpPr>
            <p:spPr>
              <a:xfrm>
                <a:off x="5643360" y="4184640"/>
                <a:ext cx="399960" cy="129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43320" y="5480640"/>
                <a:ext cx="119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043760" y="4508640"/>
              <a:ext cx="1000080" cy="972000"/>
              <a:chOff x="7043760" y="4508640"/>
              <a:chExt cx="1000080" cy="97200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7043760" y="4508640"/>
                <a:ext cx="799920" cy="6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43760" y="5156640"/>
                <a:ext cx="1000080" cy="3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643280" y="3860280"/>
              <a:ext cx="3600720" cy="101880"/>
              <a:chOff x="4643280" y="3860280"/>
              <a:chExt cx="3600720" cy="101880"/>
            </a:xfrm>
          </p:grpSpPr>
          <p:sp>
            <p:nvSpPr>
              <p:cNvPr id="227" name=""/>
              <p:cNvSpPr/>
              <p:nvPr/>
            </p:nvSpPr>
            <p:spPr>
              <a:xfrm>
                <a:off x="4643280" y="3860640"/>
                <a:ext cx="360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443640" y="3859920"/>
                <a:ext cx="63360" cy="1018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Уг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это часть плоскости, ограниченная двумя лучами, имеющими общее 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учи, образующие угол, называ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ронами уг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их общее начало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шиной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жество всех точек плоскости между сторонами угл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утренняя плоскость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лы равны, если при наложении их стороны совпад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Виды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565440"/>
            <a:ext cx="4572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ва уг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имеющих общую сторону и вершину, являю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ежны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две другие их стороны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ва уг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ртикальны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стороны одного являются дополнительными полупрямыми сторон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378936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величине (градусной ме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ол развернутый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лучи, выходящие из одной точки,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упой уг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больше прям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трый уг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меньше пря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3756-8FCB-45D9-864B-1E4C06F1C50E}" type="slidenum">
              <a:t>5</a:t>
            </a:fld>
          </a:p>
        </p:txBody>
      </p:sp>
    </p:spTree>
  </p:cSld>
  <p:transition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Ломаная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маная линия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динение отрезков, в котором конец каждого отрезка является началом следующего отрезка, и отрезки, имеющие общий конец, не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езки, составляющие ломаную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венья ломано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и соединения концов звеньев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шины ломано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венья ломаной должны быть соединены последовательно. Ломаная линия содержит конечное число звен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а лома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сумма длин звеньев лом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мкнут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если конец ее последнего звена совпадает с началом перво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ма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стая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каждое звено имеет только одну общую точку с другим звеном (конец звена). Несмежные звенья не пересек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0" b="15001"/>
          <a:stretch/>
        </p:blipFill>
        <p:spPr>
          <a:xfrm>
            <a:off x="0" y="1197000"/>
            <a:ext cx="9144000" cy="42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8197-4E31-4088-BCDE-D5121CBB71D3}" type="slidenum">
              <a:t>6</a:t>
            </a:fld>
          </a:p>
        </p:txBody>
      </p:sp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5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5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Много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лоская фигура, ограниченная простой замкнутой лом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 ломана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ица многоугольник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вень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много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чки пересечения звенье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шины много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исло вершин многоугольника равно числу его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уклы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он лежит в одной полуплоскости относительно любой прямой, содержащей его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ональ много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резок, соединяющий две несоседние вершины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ы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все его стороны и все углы равны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46800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1632-436B-4561-B8D6-33E69BF29595}" type="slidenum">
              <a:t>7</a:t>
            </a:fld>
          </a:p>
        </p:txBody>
      </p:sp>
    </p:spTree>
  </p:cSld>
  <p:transition>
    <p:cover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Тре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многоугольник с тремя углами и сторонами, ограничен ломаной из трех звеньев. Фигура, состоящая из трех точек, не лежащих на одной прямой, и трех попарно соединяющих их отрез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20500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Виды треугольников в зависимости от длин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носторонние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ороны разной д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внобедрен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вны дв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вносторонни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вны все три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213372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Виды треугольников в зависимости от содержащихся в них уг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троуголь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се углы остр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ямоуголь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ин прямой уг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упоугольные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ин тупо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01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реугольнике не может быть больше одного прямого или тупо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сторон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угольник может быть только остроуго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ый и тупоугольный треугольники могут бы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бедре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носторонни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быть и остроугольный, и прямоугольный, и тупоугольный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68360" y="4005360"/>
            <a:ext cx="2603520" cy="936360"/>
            <a:chOff x="468360" y="4005360"/>
            <a:chExt cx="2603520" cy="936360"/>
          </a:xfrm>
        </p:grpSpPr>
        <p:sp>
          <p:nvSpPr>
            <p:cNvPr id="245" name=""/>
            <p:cNvSpPr/>
            <p:nvPr/>
          </p:nvSpPr>
          <p:spPr>
            <a:xfrm>
              <a:off x="1564560" y="4005360"/>
              <a:ext cx="547920" cy="93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6800" y="4272840"/>
              <a:ext cx="685080" cy="534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68360" y="4272840"/>
              <a:ext cx="54792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16280" y="4272840"/>
              <a:ext cx="136800" cy="6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4540320"/>
              <a:ext cx="6847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32360" y="3860280"/>
            <a:ext cx="3671640" cy="1008720"/>
            <a:chOff x="4932360" y="3860280"/>
            <a:chExt cx="3671640" cy="1008720"/>
          </a:xfrm>
        </p:grpSpPr>
        <p:sp>
          <p:nvSpPr>
            <p:cNvPr id="251" name=""/>
            <p:cNvSpPr/>
            <p:nvPr/>
          </p:nvSpPr>
          <p:spPr>
            <a:xfrm>
              <a:off x="4932360" y="3860640"/>
              <a:ext cx="734040" cy="80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60520" y="4062240"/>
              <a:ext cx="1175040" cy="806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82440" y="4869000"/>
              <a:ext cx="88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163360" y="3860640"/>
              <a:ext cx="44028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282440" y="3860280"/>
              <a:ext cx="132156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D4BF-7BD2-4105-9F49-05DB4CD2ECA1}" type="slidenum">
              <a:t>8</a:t>
            </a:fld>
          </a:p>
        </p:txBody>
      </p:sp>
    </p:spTree>
  </p:cSld>
  <p:transition>
    <p:cover dir="r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Четырех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тырех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ограничен ломаной из четырех звеньев, имеет четыре стороны и четыре вер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а, состоящая из четырех точек и четырех последовательно соединяющих их отрезков, при этом никакие три из данных точек не лежат на одной прямой, а соединяющие их отрезки не пересек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349360"/>
            <a:ext cx="4826160" cy="1584360"/>
          </a:xfrm>
          <a:prstGeom prst="parallelogram">
            <a:avLst>
              <a:gd name="adj" fmla="val 76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52360" y="234936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ограмм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хугольник, противоположные стороны которого попарно паралл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5508360" y="4581000"/>
            <a:ext cx="3384360" cy="2087640"/>
          </a:xfrm>
          <a:custGeom>
            <a:avLst/>
            <a:gdLst>
              <a:gd name="textAreaLeft" fmla="*/ 744120 w 3384360"/>
              <a:gd name="textAreaRight" fmla="*/ 2640240 w 338436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6360" y="458136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пеция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хугольник, две стороны которого параллельны, а две другие не паралл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263800">
            <a:off x="5953320" y="1038960"/>
            <a:ext cx="1914480" cy="41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9720" y="26370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м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– параллелограмм, все стороны которого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508464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084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параллелограмм, у которого все углы пря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4005360"/>
            <a:ext cx="215928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4437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драт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ик, у которого все стороны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AEFF-AAA5-4709-ADEE-4F3DB9CD3822}" type="slidenum">
              <a:t>9</a:t>
            </a:fld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1:45:34Z</dcterms:created>
  <dc:creator>Габов</dc:creator>
  <dc:description/>
  <dc:language>en-US</dc:language>
  <cp:lastModifiedBy>Габов</cp:lastModifiedBy>
  <dcterms:modified xsi:type="dcterms:W3CDTF">2006-04-23T07:02:37Z</dcterms:modified>
  <cp:revision>12</cp:revision>
  <dc:subject/>
  <dc:title>Слайд 1</dc:title>
</cp:coreProperties>
</file>